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ea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3D6-0FA0-4E49-B542-27890269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4B7-483A-4839-A452-A2136572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E3A-B566-4CF8-BF38-F1086B1E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B40-44DD-4FC6-A7CF-BB3E574F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DBA-F14F-42A9-89AE-EEA0753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882-11D4-46E0-ADB1-6181FD22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B65-61AD-41BD-853E-569EB646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FB7-7462-4D90-A112-7DCAD8B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A02-F665-416E-8D4E-BE0BC8B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5F5-F9A9-4438-B2DA-6030DCA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D79-28ED-462E-BAB7-D2FFD3A3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E06-32FF-449C-827C-9F556F0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989-36D3-49FC-9218-C797A031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ppear.wav"/><Relationship Id="rId7" Type="http://schemas.openxmlformats.org/officeDocument/2006/relationships/audio" Target="../media/appear.wav"/><Relationship Id="rId8" Type="http://schemas.openxmlformats.org/officeDocument/2006/relationships/audio" Target="../media/appear.wav"/><Relationship Id="rId9" Type="http://schemas.openxmlformats.org/officeDocument/2006/relationships/audio" Target="../media/appear.wav"/><Relationship Id="rId10" Type="http://schemas.openxmlformats.org/officeDocument/2006/relationships/audio" Target="../media/appear.wav"/><Relationship Id="rId11" Type="http://schemas.openxmlformats.org/officeDocument/2006/relationships/audio" Target="../media/appear.wav"/><Relationship Id="rId12" Type="http://schemas.openxmlformats.org/officeDocument/2006/relationships/audio" Target="../media/appear.wav"/><Relationship Id="rId13" Type="http://schemas.openxmlformats.org/officeDocument/2006/relationships/audio" Target="../media/appear.wav"/><Relationship Id="rId14" Type="http://schemas.openxmlformats.org/officeDocument/2006/relationships/audio" Target="../media/appear.wav"/><Relationship Id="rId15" Type="http://schemas.openxmlformats.org/officeDocument/2006/relationships/audio" Target="../media/appear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765000"/>
            <a:ext cx="763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¿Qué tal</a:t>
            </a: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¿Cómo estás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300816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7530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830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814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4896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91040" y="3357720"/>
            <a:ext cx="25686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24240" y="3357720"/>
            <a:ext cx="25668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357720"/>
            <a:ext cx="25686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muy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91040" y="836640"/>
            <a:ext cx="2568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24240" y="836640"/>
            <a:ext cx="256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836640"/>
            <a:ext cx="2568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ta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está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836640"/>
            <a:ext cx="770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357720"/>
            <a:ext cx="770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840280"/>
            <a:ext cx="770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836640"/>
            <a:ext cx="0" cy="500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24240" y="836640"/>
            <a:ext cx="0" cy="50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91040" y="836640"/>
            <a:ext cx="0" cy="50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836640"/>
            <a:ext cx="0" cy="500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112392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54720" y="1125360"/>
            <a:ext cx="1584360" cy="148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00120" y="3608280"/>
            <a:ext cx="99540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440000" cy="142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14400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2:42:53Z</dcterms:created>
  <dc:creator>Helen</dc:creator>
  <dc:description/>
  <dc:language>en-US</dc:language>
  <cp:lastModifiedBy>Helen</cp:lastModifiedBy>
  <dcterms:modified xsi:type="dcterms:W3CDTF">2008-09-15T13:01:35Z</dcterms:modified>
  <cp:revision>3</cp:revision>
  <dc:subject/>
  <dc:title>Slide 1</dc:title>
</cp:coreProperties>
</file>